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10D22-9FEB-4611-BDBE-31647F8A3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B38AF-7EBA-4D6C-86BE-D88C82A0F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6ADF5-BBF8-42FD-B6E4-ED8A9927F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5D9B8-516E-4A83-8F95-65F05A0EF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EB395-8910-4805-BED5-A3F592F87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8B796-3E04-476E-A912-CB6CBCCCC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D7885-DF32-40C3-A5F4-9CF4A2CB5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8EF24-6AE8-4F38-97F6-080E89663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8B8EB-230F-47B2-AC63-A5FD5B376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93C15-C3C2-43F3-AF83-DC9BCA972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19420-40EA-4A5F-9376-BEFBC5C6F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6A111-2C8F-4220-A7A3-A84782564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73BBB-49F0-4B38-97D0-E8F21827F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2FC58-67E0-4D04-BA75-3C9DEAFCC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7CEB7-5E42-4E20-9B5E-C80FF2681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05256-2F5B-4F32-B30C-789E3502A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E3E44-F1B3-4FDE-8CB6-124606FE6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EB10A-BADE-4ADC-A7EF-ACB296639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97D68-7E06-4636-9726-E87639BD6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E93CD-5025-43C0-9539-413684A52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6629C-D9BE-4A85-A36F-451EE354D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9F5BD-8E15-47AF-88DE-BE328C8E6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0F7D5-D7A2-4DC9-805F-125B51698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6C486-5CD9-4399-B79C-7B7D52075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F6AC-4CA0-4A05-8B6F-AD8DF1BDE9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742D-8C34-4472-B720-79BB39D874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IMFONIA</a:t>
            </a:r>
            <a:r>
              <a:rPr b="1" lang="en-US" sz="1800" spc="-1" strike="noStrike">
                <a:solidFill>
                  <a:srgbClr val="ccecff"/>
                </a:solidFill>
                <a:latin typeface="Arial"/>
              </a:rPr>
              <a:t> </a:t>
            </a:r>
            <a:endParaRPr b="0" lang="en-US" sz="1800" spc="-1" strike="noStrike">
              <a:solidFill>
                <a:srgbClr val="ccecff"/>
              </a:solidFill>
              <a:latin typeface="Arial"/>
            </a:endParaRPr>
          </a:p>
        </p:txBody>
      </p:sp>
      <p:sp>
        <p:nvSpPr>
          <p:cNvPr id="211"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Arial"/>
            </a:endParaRPr>
          </a:p>
        </p:txBody>
      </p:sp>
      <p:sp>
        <p:nvSpPr>
          <p:cNvPr id="212"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0"/>
                                        </p:tgtEl>
                                        <p:attrNameLst>
                                          <p:attrName>style.visibility</p:attrName>
                                        </p:attrNameLst>
                                      </p:cBhvr>
                                      <p:to>
                                        <p:strVal val="visible"/>
                                      </p:to>
                                    </p:set>
                                    <p:animEffect filter="dissolve" transition="in">
                                      <p:cBhvr additive="repl">
                                        <p:cTn id="7" dur="5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Arial"/>
            </a:endParaRPr>
          </a:p>
        </p:txBody>
      </p:sp>
      <p:sp>
        <p:nvSpPr>
          <p:cNvPr id="214"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215" name="Picture 10" descr=""/>
          <p:cNvPicPr/>
          <p:nvPr/>
        </p:nvPicPr>
        <p:blipFill>
          <a:blip r:embed="rId1">
            <a:grayscl/>
          </a:blip>
          <a:stretch/>
        </p:blipFill>
        <p:spPr>
          <a:xfrm>
            <a:off x="5214960" y="928800"/>
            <a:ext cx="1440000" cy="1439640"/>
          </a:xfrm>
          <a:prstGeom prst="rect">
            <a:avLst/>
          </a:prstGeom>
          <a:ln w="9360">
            <a:solidFill>
              <a:srgbClr val="969696"/>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Arial"/>
            </a:endParaRPr>
          </a:p>
        </p:txBody>
      </p:sp>
      <p:sp>
        <p:nvSpPr>
          <p:cNvPr id="217"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4a3</cp:lastModifiedBy>
  <dcterms:modified xsi:type="dcterms:W3CDTF">2012-06-09T23:23:01Z</dcterms:modified>
  <cp:revision>47</cp:revision>
  <dc:subject/>
  <dc:title>SALARIUL</dc:title>
</cp:coreProperties>
</file>